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26486"/>
        <c:axId val="60734811"/>
      </c:barChart>
      <c:catAx>
        <c:axId val="978264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34811"/>
        <c:crosses val="autoZero"/>
        <c:auto val="1"/>
        <c:lblAlgn val="ctr"/>
        <c:lblOffset val="100"/>
        <c:noMultiLvlLbl val="0"/>
      </c:catAx>
      <c:valAx>
        <c:axId val="60734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264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080-7D7A-42E9-8842-CDEACB78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988C-BE2B-4BE0-8A42-BCC7F3AC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853D-8E33-4EBC-8C39-9E0DA3AC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9FB-259D-40C5-AC0A-8FDEECE2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5B2-177A-42D4-8B33-3C0A53E0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B1B-14D7-4495-B72C-159381FD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6D9-DA6A-4CAB-96C5-32534B65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CA6-BF7D-4DE6-AC8F-D1940B9F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5CD-A758-457A-A5B8-B917C12D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50C-9604-4D87-9E62-16D66669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17FD-FFA4-4180-AE75-E25FE0C4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BD4-FFDD-4069-9DC1-C7FC2C6D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70798-93AA-4473-806B-5C0C718F48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